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FF9BC-9BA0-465A-B4C0-F9587A96A8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5A628-DD75-4F9C-8009-CBB6A714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E347F9-FF21-4538-9DB4-986D845A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6C28C5-A8B3-45EB-8CEA-85F7E0FF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1F1156-4F12-4D06-9B75-B36C4E57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0D4735-EA5D-463A-BF6E-B6399139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AF2E1F-B749-4F56-84B1-8FFF3DE8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7B0A0A-A033-467E-813F-FCE73054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1BD77C-F86F-4D09-8226-4FF3D94B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59AA1F-6820-4A71-9C8F-6A337BC1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BEFC95-96CA-4093-88F2-7891471432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59C31-5AC1-4777-9232-87800249D3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6F9DB-5ECC-4016-B8B2-47EF0394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518F7-0A05-4711-A8D8-C375F5B1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B2053-C9DF-4698-9F7C-F71E77AC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4039D-4517-4DCE-9CD3-2A2D0E15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FC383-8551-4A42-B047-E364D8A4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43B2C-66DC-4451-9015-D2719049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AE074-64DC-4A91-AA02-486BD313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110E0-ADE0-4E4C-A228-01FDD17E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A2F79-CC4C-402D-B73B-54F52683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8418C-F6E1-428B-ACFA-A3727627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586DE-9D05-42AB-9BE2-5E03FAE6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21AE-040D-46EE-8EEF-2B721C3E33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EBD01-37E7-4179-96B9-31A60A6482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94BA1B-94AF-40B2-9BC9-0305F81AC9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279460-3726-446E-B782-DC81CF8E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D65BD6-6B7D-4D06-BD3C-A1940EC9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A69429-FABB-42DA-B5A7-F58A7855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118C1B-AC2B-4E8E-A9E5-53542B81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A27D83-8986-4EB3-AFCB-84674D7D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D0F567-F7FF-4407-A2F2-A6135999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26195D-2E67-4A54-A1CF-24F780B1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990401-3BDB-4AEC-BBF4-0F348B3A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C2B55-94A9-49AA-A599-61349AD7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A22A7D-BE6A-4D46-B0AA-E3333B9E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FCB5C9-F7F9-4A4C-9405-8354C59E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F333B5-7902-4E05-AE8A-FD8B5ABCA5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6BEFD-CC63-4682-A03C-2CD874BCC3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9D9093-A741-4ACA-90F3-DD09CEAF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6473CC-34DA-438F-8F8A-CEF3DAF3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4363EB-3735-4FFA-9995-8B411A05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63A69-365F-4EE3-8B97-933E4753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20F565-BD55-4C5E-AEC5-3FB71E67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C43DE-A152-47C3-B321-436D2FBD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855E7-A89D-4021-B334-0E2F03B6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BB0A3A-1378-4CC5-9478-F1951B34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CC7291-A5A9-46DD-8EE7-A5594975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2CE037-F253-48DA-9B6A-D962A72E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73C65-4E21-4328-B12C-D33CD728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7292B0-5456-432D-85EB-458C1D2A76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BAA00-97A9-4310-A77A-9A3718E633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ACDAF-27FF-46E6-B4F2-B4393B2B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55CEC-62DA-482D-BE54-7B46A552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EBFDF-C0EC-45CB-BAD3-0FA62DCE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30B91-F5B9-4665-9025-089976D3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FBE67-248B-4672-925A-959E6444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CE5D9-4524-4DF7-A1B1-ADBF78F7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808F6-5803-4C55-80B7-AB5E3597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9F33F-8876-4999-AFCD-9CDCE034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C2B3E-1DE5-4638-B68A-70344F21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0195B-734F-49FA-9874-7AC8FA44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8C6F7-F369-4EB1-BAC3-382D5846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AA615-2FBA-4BE2-8F38-47179F3462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5BFF7-0E8E-4CC5-B09F-75DD1A0E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42345-0010-4B75-92E5-1BE644C9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44DF2-4CEB-4B29-B67C-C83E9883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C558E-16C7-4610-A11C-19FE6FC3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9A989-0229-42F7-B977-23A95664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26158-DB1A-4534-8B4D-89499E31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4B9C9-8507-4924-921C-FAB39800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A28B3-9758-4AF1-8B2F-DD253605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92AB5-FF76-4A53-B80D-8B32197A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14C40-7E88-4CAA-8C91-4966A01D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E1CD4-006E-468C-B310-42CA1BBB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4A5BD-B3C9-478A-B985-92AFC9E8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976AA-DE2D-4802-9ADC-29A38B42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22ECD-587B-495F-B6D6-53B4B4D1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D08FA-3396-47D5-9229-0B83C3B6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CFE62-C6E2-4D77-946B-80ECED6F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036CA-19B8-4A08-B665-4CF72397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E3BBA-EFEB-40FE-AC57-192BC007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78989-D1B4-426B-A21C-C1E9F531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9C52F-6AAF-4E68-AC83-EF323A8F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32028-E1BD-453A-9956-727263E6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EE399-C1DC-4363-9C4F-ADD871B9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606EA-60E2-43BC-AA58-0304088F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07BDF-F7AF-4C8A-8BD1-EE97B763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28B3F-EE2C-4A32-B680-4E8C5B0B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3E207-47CD-4B06-B67F-6A87FF0D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16ECD-7BF4-45E2-B63E-B65BF29A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DBD13-9562-487F-B4C2-33AE17E5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E882B-E712-4C5D-9090-8A8AE033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3B992-4C0B-4AC7-B5AF-87855DB9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13BF6-68B8-4180-9E98-02CFE0FC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316C7-BFEA-473D-9EC4-92BDF972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3636D-8403-45E2-BC0F-3A7A0385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CF75F-D032-4808-B2BB-4D1AB12F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1881E-FEC8-4ECA-8BBD-D743F85D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18584-1398-4BAE-AF25-37C218F2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5E22D-8927-4E98-8D10-AC703B8B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A969D-F63C-4579-8A7B-1F21C6CD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3A34B-21DC-4639-9EF3-8B2ADEA2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184CE-B7E9-41C2-873F-3CD05A99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9883B-5EB7-476A-9C2C-58DD6B2C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766E24-DFB9-4EC0-8275-9E9209E7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A3604-2702-488A-A3CA-9713B344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02104-1239-4751-B9EC-54D25505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F1703-59BF-47D5-93F1-DDF7D535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717D5-8146-4900-AA30-3D9F817F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2096F-6510-4F48-A941-946AEE71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4537A-68AF-499D-9E0E-426C5957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37DE6-6893-4D81-920F-3792121F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D05CC-3655-4578-9C83-0F4D0D9A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70FCA-CB5A-437E-A470-FCE58345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3449E-5CF5-4E37-BD60-4FA818A9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43101-DF18-4660-8112-02061BA3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43881A-5B7A-4749-8AD8-36744255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83CECE-6510-4CEF-A7B3-EC8E2AC4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5CBA37-9C4A-42D7-A882-3291F6FB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A68866-19D6-4A58-861B-413735C6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FAA10B-20D3-4FF0-B29B-AE3FEAAD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564CC9-4001-4B1C-A60A-C141B6FB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FF157-5136-4A75-A1F7-7F70BCBC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2621AC-F093-4432-B0AD-C03E8D0E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F7E974-865A-4BDA-BDA7-EFC1F4B0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F53D0A-470F-45E7-8C71-9A3D4B05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0194A2-0577-400F-88CF-137EE55F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8CF8F-55E8-47EF-9B0C-275E833D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3D2CC8-2F36-4569-9A49-8CC8B212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520DB-5206-4BAB-8DF8-7496E3B0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FD47C6-CDDF-435F-960F-4FB8F8D1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E724B9-A580-4201-BF39-CCB4AD5B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4E671F-E9F6-4FFE-8AF8-CDC4964B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657E6-0C83-4FDF-954E-D5D41CB3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4BD4D9-BE62-4B6E-87DA-E777E642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5EE47C-ED50-4987-847C-D84FFDD1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7778BE-A4A6-4A95-B717-D413EE54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D1D9E5-18D7-450D-BFE5-4AC22A8E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7F9DF-0D86-41FD-B0F5-9931EA6D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6A2D92-1CC3-4FD0-8FBB-D40E2F38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CFCCEE-81B5-4DD5-8BED-793390D4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0F9AA-C06A-4B56-BF3A-250AD66C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4B596F-C689-437C-8E85-FFD03071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E52C02-A9B6-477E-90BD-57821FA0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FD20F-809F-451B-A70D-0065D55C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CEC529-33DD-440B-BCBC-F337B03D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05EF2F-8D80-4A99-B2EC-A51407A0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F29802-158C-44D7-8AFA-FE3E32D5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202680-841B-413E-A9F1-0CE36DB9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E449CE-C296-41A3-AD40-96B5EEDD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1D4E8-3737-4F3C-B1F4-C8700873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394433-D4FD-490B-BA97-0F48326D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46FB0A-53B8-4CC3-8014-9A77091D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B86B82-8417-4CF3-8951-E3C08778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A0FF06-67A8-49D2-885B-F487D4CF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E2215-EE6C-4A92-96BD-E5FB6B38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CEDE7-2331-47E6-875B-827A5BA3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258DC6-F2EB-4B73-AE7F-B9F68E95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165CBC-05B3-4BFC-8EC5-BD3EA8FB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AF0F94-260F-4821-A1A0-D1FB1E8E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1EFAC4-E199-4697-9DED-6D33835A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E87E05-9D0B-43E1-83A4-B1229530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2E88FE-37F0-490D-88BD-AE7E3151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719533-EA94-4409-92ED-42E2E4E7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D1C41C-BFCF-4BC2-B582-454DAE69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60B1E8-9267-48B1-A145-8680491B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01A268-A520-4DCE-ACAB-E66F76036C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3C8298-9331-474F-A221-4AD54A02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D90D2E-ED7B-4175-A406-711D7CDC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4335AB-C1AC-4D7F-BDEA-9AD10A87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88C5B8-D8FF-4D0B-B2D7-34494D74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88E2F-2D6B-4230-94DF-823C7E18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ACB26D-CC60-4106-A4CD-636EE0CE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F60C9-5351-4CD8-866A-ADF9E430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96510B-7661-4A18-A90C-2E2885CE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494F76-56FF-4A26-BE6F-25599E4E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F28102-43FC-4196-A9BA-A1533517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715B03-75A3-4C6E-99DF-7D0CFF7B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34087C-9E20-4F4E-9C1F-0D21CC59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EC5F98-E993-4B44-8A69-C663F3E6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5E2A4B-4D53-4903-8102-412D614B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1EDFBD-06E9-4A35-9E48-D962F25A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472A59-B163-46C2-ADED-B5B1D522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ED1565-1BC8-4E51-9E3B-BEFA6427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7E2BDC-CBE6-4D63-BF66-3B7E65C5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2256D6-2542-4F8A-A682-9EBC2250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976E71-1A2E-4C6B-B8C2-B0F727B7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E69694-51C4-4A9E-97E0-29940E66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CF758B-E728-49A2-B93A-340F86FD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7118F7-5F88-4168-B09A-D2C710B3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52EF19-4FBE-4E88-9A46-46916069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4FD210-75D9-43CC-B6C0-6FE0BA31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B6F906-6BB0-44FF-8299-37A9E001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38C130-464D-435C-A455-6A42A135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373302-90A2-4C88-BAB5-F96EE7A8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F0C39F-9AE9-4FEA-9136-846A20AA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CB281A-46A8-41A7-B56B-A6F85D64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8C6E77-4251-4E7A-8DE1-7932C06D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0142AF-B731-43C7-A626-C6F12A6D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CCC116-CB24-4B30-B6FE-F844FF8A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3F9424-5951-4F53-8C0D-8BCCA3FF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D9756-247E-4F42-B30E-7ED67B21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43AE64-9D27-4383-9DB9-A6682D40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74C002-5BC1-4F56-B911-A70B44E0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9193E5-1849-43A1-B392-6F7F2E0A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13F25A-EE2B-4DCB-A3B2-00E88810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A39D16-7248-4818-AD13-7AC7D967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8DE893-A73D-499B-A137-4E9D5E24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3D3000-FE7B-49DA-8161-064CF5C1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9A60FB-1E28-495A-8159-3E92B617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F9E6-C1A9-41A6-9E35-5C2315B9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1D2123-DB87-4DED-BF18-3F5A9035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3E06AD-919E-46DA-945A-201B5F85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1D0886-DD01-4247-B045-239F4D1B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BA73BC-CE59-4062-AEC8-412F8619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CAB866-08C1-44EC-99C0-430770C0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91E5CD-D4A0-4099-8BBE-E4255754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1490F3-0B47-4983-895A-AE9ADD8471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557F8-C72A-4A7D-92E3-7653E8CEBA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FD3FF-3C35-4505-909F-7CA41FFA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0774F-01AF-43FF-929F-02C98C8A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383C-0562-4D59-92AB-02026CC8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15D25-89CE-48D5-AE6E-8C1840B0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9FFA9-1502-4DB7-B891-E682B75F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1DAFA-CF2A-4AF2-AD89-61D4C3A0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2F565-3805-425F-9F47-2BB4F68B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56F70-F891-42A7-B740-E4D2CE49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5E3C7-673A-4DBB-B63D-4074BD70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13099-F333-47B9-B79A-D8923CB9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124BD-6D19-40B3-A80A-0A3A1ACF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1E254-9CFD-4407-9416-F6B99D72F1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0D96C-1EC3-4E7B-83CF-2FEB482F79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260B9-015E-44BF-BB79-50C112F3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9BF304-6999-406A-92C4-47ACF8FE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BBFCD8-9EF4-452F-A85B-7380F164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2BCEC8-EE32-4AE2-B481-A6636271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326C35-59B0-4E55-B5B7-571CF77F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7E4BBF-42DE-4B81-9359-3B93DE9E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DEF1AA-ED66-43B2-AEC6-C274957B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EE32ED-8D7E-46A2-AE40-1A6B0202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DF4A8-1832-4215-930B-69F3D962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DF0616-015F-4B54-82CD-86F3E9B6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499E5F-FB31-47BC-9FD1-39A3BAAA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1DA5-13ED-426E-97D9-7E1EC87F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F61426-906C-40F6-80FA-F32128A741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0734EC-9D2B-4D3B-A0C3-0E1D4FB660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8277DE-9237-4B45-AABC-072B058B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9CE5A2-85F6-4295-B3FA-AEC32E0C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C42526-928C-40DA-B5E0-484FCE7D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3287D3-B850-4AF7-8A61-15A6D7BA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A98F59-402A-41F3-9F1A-AF815BC4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224949-728A-4F2B-A41C-E3514DBD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CDAF31-C351-4236-BFE4-50ADDF01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6370D8-3D84-4675-BD63-998C743F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0AC8-2A21-4C0A-AFE3-2826BF8C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C2E6DB-1E25-4D77-A98C-2C64FF81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C82376-5AFF-4384-B070-142BD33C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A8A103-F343-44B6-9132-8884E84EF4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B1754-018D-4DBA-940F-D8B2F4B2CF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6A037-DF0C-4474-AD36-57F1FEBB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770F8-3E1F-4D78-9BE9-E4069775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10198-5EB1-41B7-BAEA-04DA83E7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0BB55-CD3B-457F-92BB-BB732912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CE4A0-5761-460F-B0FF-C14ECFED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2E268-31A2-4728-8EFC-928CC463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0962D-995C-4AC1-B6E0-36A5CE71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6D44F-00B2-4161-865D-23D02BA2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5D49F-3EC1-461B-A57B-703200FA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348C4-A9FD-4F21-8375-475CAD9C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2E5E9-02F2-4F83-A7E4-8F226773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58DB8-48AA-4172-9C2A-282F5E1D8D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885293-62AF-4768-861C-C096283DB4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9AAEF5-04EE-4182-9D02-694B283C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2E79C-94A2-495A-8CDD-31F627D4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0C4753-821F-4215-820B-862B5C8B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896158-57AB-430C-ABF1-E7247678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55FB-E9AE-414C-AFE9-873A2082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75A440-9DC3-482D-A5DC-81009792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415DFF-7848-4623-8468-7FF86248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6ECBB-659E-4886-98F3-0134B9A6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163381-6123-41B4-B02E-ECE39D4B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6D3E0-E7E4-4A49-868E-B73E39FF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6E081-927C-4E51-A73E-AD0F0FB4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5393B1-2781-4320-8439-BFACB39D11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9452AF-EEE2-4448-A6B6-18906A34DE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4DD259-3BF5-46BD-983F-FD05F175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A32924-6460-4103-BF14-E84A899C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E023-8B7F-4CAA-B816-CA58B91DA74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FBC0-CCB7-49DB-9F86-87AC355A0F6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635B-9AD5-4FD2-9E8B-447CB60A110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E758-706D-456E-9865-9DBA4E1A5AF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1F08-9EF2-4C3F-9DE4-1E38D919095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99E3-86FA-4DDB-A40B-16ECDB5ADA5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B739-A67F-4490-904B-67F93658BA6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C634-C98E-4A3E-B7E1-1F7C92941A8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8534-C465-4EEE-A940-ACE267A6123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C056-12DF-4F81-A6EE-FB0B321F4F4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A30C-0D8C-42FB-9BB9-7EB42FBC1FF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63A4-B46E-4D45-9D22-9FF9F4C6BAC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6CF5-A99B-4C95-AAAB-9B7BD318231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2617-BD54-4881-BD33-6894F1B34D8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9BA8-A218-414F-BC7D-826AA05ABF1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976C-F2BC-4EA0-9DB8-E4E85B68AAD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4DD9-5D8B-40C5-AFAA-C3DFB7BF8A6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3199-9949-4CD6-8B67-350F51566BD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72D4-3F9F-4268-810F-B12F4801FF2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5666-87AE-4D42-B71B-E083F08BA1C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8C72-3CFC-4EFE-A82A-9EDA222C6E2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B1F9-476D-4930-AF84-8CE9BBAC6D3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125B-200A-4E07-B777-5E43D87318C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72CE-4609-400E-A052-8A346A13C88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322280" y="2676600"/>
            <a:ext cx="55908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数 的 产 生 和 十 进 制 计 数 法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1000" y="174456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5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3" name="TextBox 3"/>
          <p:cNvSpPr/>
          <p:nvPr/>
        </p:nvSpPr>
        <p:spPr>
          <a:xfrm>
            <a:off x="228600" y="1066680"/>
            <a:ext cx="94489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一百亿里有（      ）个十亿， （      ）个一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亿是一千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从个位起，第（      ）位是万位，第（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位是十亿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和亿位相邻的两个数位是（             ）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Box 4"/>
          <p:cNvSpPr/>
          <p:nvPr/>
        </p:nvSpPr>
        <p:spPr>
          <a:xfrm>
            <a:off x="3043080" y="2019240"/>
            <a:ext cx="1071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5"/>
          <p:cNvSpPr/>
          <p:nvPr/>
        </p:nvSpPr>
        <p:spPr>
          <a:xfrm>
            <a:off x="6167520" y="2019240"/>
            <a:ext cx="10713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Box 6"/>
          <p:cNvSpPr/>
          <p:nvPr/>
        </p:nvSpPr>
        <p:spPr>
          <a:xfrm>
            <a:off x="3576600" y="3467160"/>
            <a:ext cx="10717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Box 7"/>
          <p:cNvSpPr/>
          <p:nvPr/>
        </p:nvSpPr>
        <p:spPr>
          <a:xfrm>
            <a:off x="7315200" y="3467160"/>
            <a:ext cx="10717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8"/>
          <p:cNvSpPr/>
          <p:nvPr/>
        </p:nvSpPr>
        <p:spPr>
          <a:xfrm>
            <a:off x="5405400" y="4952880"/>
            <a:ext cx="1833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十亿位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9"/>
          <p:cNvSpPr/>
          <p:nvPr/>
        </p:nvSpPr>
        <p:spPr>
          <a:xfrm>
            <a:off x="762120" y="5638680"/>
            <a:ext cx="16761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千万位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21"/>
          <p:cNvSpPr/>
          <p:nvPr/>
        </p:nvSpPr>
        <p:spPr>
          <a:xfrm>
            <a:off x="1694880" y="12240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2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99"/>
          <p:cNvSpPr/>
          <p:nvPr/>
        </p:nvSpPr>
        <p:spPr>
          <a:xfrm>
            <a:off x="365040" y="746280"/>
            <a:ext cx="8299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一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十万位相邻的两个数位是（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万位和亿位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千万位和万位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万位和千位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百万位和万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个十位数，它的最高位是（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百亿位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千万位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亿位    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十亿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含有个级、万级和亿级的数，至少是（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六位数 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七位数  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八位数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九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面四个数中，亿位上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数是（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057290000     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477680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516004937     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59814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1"/>
          <p:cNvSpPr/>
          <p:nvPr/>
        </p:nvSpPr>
        <p:spPr>
          <a:xfrm>
            <a:off x="4079880" y="1324080"/>
            <a:ext cx="4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2"/>
          <p:cNvSpPr/>
          <p:nvPr/>
        </p:nvSpPr>
        <p:spPr>
          <a:xfrm>
            <a:off x="4078440" y="2717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3"/>
          <p:cNvSpPr/>
          <p:nvPr/>
        </p:nvSpPr>
        <p:spPr>
          <a:xfrm>
            <a:off x="5089680" y="36194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4"/>
          <p:cNvSpPr/>
          <p:nvPr/>
        </p:nvSpPr>
        <p:spPr>
          <a:xfrm>
            <a:off x="4740120" y="4524480"/>
            <a:ext cx="4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28520"/>
            <a:ext cx="3244680" cy="525600"/>
            <a:chOff x="0" y="128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28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223560"/>
              <a:ext cx="429840" cy="273600"/>
              <a:chOff x="0" y="223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87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50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61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37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67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8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51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3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13"/>
          <p:cNvSpPr/>
          <p:nvPr/>
        </p:nvSpPr>
        <p:spPr>
          <a:xfrm>
            <a:off x="679320" y="1347840"/>
            <a:ext cx="576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宋体"/>
              </a:rPr>
              <a:t>问题：你们已经学过哪些数了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"/>
          <p:cNvSpPr/>
          <p:nvPr/>
        </p:nvSpPr>
        <p:spPr>
          <a:xfrm>
            <a:off x="679320" y="2579760"/>
            <a:ext cx="8064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宋体"/>
              </a:rPr>
              <a:t>过渡：数究竟是怎样产生的呢？今天我们就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宋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宋体"/>
              </a:rPr>
              <a:t>学习数的产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51203"/>
          <p:cNvSpPr/>
          <p:nvPr/>
        </p:nvSpPr>
        <p:spPr>
          <a:xfrm>
            <a:off x="5238360" y="63817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51204"/>
          <p:cNvSpPr/>
          <p:nvPr/>
        </p:nvSpPr>
        <p:spPr>
          <a:xfrm>
            <a:off x="5454360" y="65977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1"/>
          <p:cNvSpPr/>
          <p:nvPr/>
        </p:nvSpPr>
        <p:spPr>
          <a:xfrm>
            <a:off x="1020960" y="12528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1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5" name="Rectangle 21"/>
          <p:cNvSpPr/>
          <p:nvPr/>
        </p:nvSpPr>
        <p:spPr>
          <a:xfrm>
            <a:off x="1618920" y="12240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图片 52226" descr="5"/>
          <p:cNvPicPr/>
          <p:nvPr/>
        </p:nvPicPr>
        <p:blipFill>
          <a:blip r:embed="rId8"/>
          <a:stretch/>
        </p:blipFill>
        <p:spPr>
          <a:xfrm>
            <a:off x="1905120" y="2257560"/>
            <a:ext cx="1031760" cy="1201680"/>
          </a:xfrm>
          <a:prstGeom prst="rect">
            <a:avLst/>
          </a:prstGeom>
          <a:ln w="0">
            <a:noFill/>
          </a:ln>
        </p:spPr>
      </p:pic>
      <p:pic>
        <p:nvPicPr>
          <p:cNvPr id="1027" name="图片 52227" descr="4"/>
          <p:cNvPicPr/>
          <p:nvPr/>
        </p:nvPicPr>
        <p:blipFill>
          <a:blip r:embed="rId9"/>
          <a:stretch/>
        </p:blipFill>
        <p:spPr>
          <a:xfrm>
            <a:off x="685800" y="2333520"/>
            <a:ext cx="876240" cy="114300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52228" descr="5"/>
          <p:cNvPicPr/>
          <p:nvPr/>
        </p:nvPicPr>
        <p:blipFill>
          <a:blip r:embed="rId10"/>
          <a:stretch/>
        </p:blipFill>
        <p:spPr>
          <a:xfrm>
            <a:off x="762120" y="3552840"/>
            <a:ext cx="1031760" cy="120168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52229" descr="4"/>
          <p:cNvPicPr/>
          <p:nvPr/>
        </p:nvPicPr>
        <p:blipFill>
          <a:blip r:embed="rId11"/>
          <a:stretch/>
        </p:blipFill>
        <p:spPr>
          <a:xfrm>
            <a:off x="2133720" y="3629160"/>
            <a:ext cx="876240" cy="114300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52230" descr="6"/>
          <p:cNvPicPr/>
          <p:nvPr/>
        </p:nvPicPr>
        <p:blipFill>
          <a:blip r:embed="rId12"/>
          <a:stretch/>
        </p:blipFill>
        <p:spPr>
          <a:xfrm>
            <a:off x="1066680" y="4892760"/>
            <a:ext cx="2133720" cy="368280"/>
          </a:xfrm>
          <a:prstGeom prst="rect">
            <a:avLst/>
          </a:prstGeom>
          <a:ln w="0">
            <a:noFill/>
          </a:ln>
        </p:spPr>
      </p:pic>
      <p:sp>
        <p:nvSpPr>
          <p:cNvPr id="1031" name="文本框 52231"/>
          <p:cNvSpPr/>
          <p:nvPr/>
        </p:nvSpPr>
        <p:spPr>
          <a:xfrm>
            <a:off x="1464480" y="530532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用实物记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2"/>
          <p:cNvSpPr/>
          <p:nvPr/>
        </p:nvSpPr>
        <p:spPr>
          <a:xfrm>
            <a:off x="392040" y="841320"/>
            <a:ext cx="86756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宋体"/>
              </a:rPr>
              <a:t>说明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古时候，人们虽然有了计数的需要，但是开始只知道“同样多”、 “多”或“少”，还不会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这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数来数物体的个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2"/>
          <p:cNvSpPr/>
          <p:nvPr/>
        </p:nvSpPr>
        <p:spPr>
          <a:xfrm>
            <a:off x="3505320" y="2463840"/>
            <a:ext cx="5486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宋体"/>
              </a:rPr>
              <a:t>说明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比如出去放羊的时候，每放一只羊，就摆一个小石子，一共放了多少只羊，就摆多少个小石子。放牧回来时，再把羊和小石子一一对应起来。如果回来的羊的只数和小石子同样多，就说明放牧时羊没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53249" descr="7"/>
          <p:cNvPicPr/>
          <p:nvPr/>
        </p:nvPicPr>
        <p:blipFill>
          <a:blip r:embed="rId1"/>
          <a:stretch/>
        </p:blipFill>
        <p:spPr>
          <a:xfrm>
            <a:off x="5257800" y="685800"/>
            <a:ext cx="2743200" cy="215424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53250" descr="27"/>
          <p:cNvPicPr/>
          <p:nvPr/>
        </p:nvPicPr>
        <p:blipFill>
          <a:blip r:embed="rId2"/>
          <a:stretch/>
        </p:blipFill>
        <p:spPr>
          <a:xfrm>
            <a:off x="539640" y="3124080"/>
            <a:ext cx="2868840" cy="2519640"/>
          </a:xfrm>
          <a:prstGeom prst="rect">
            <a:avLst/>
          </a:prstGeom>
          <a:ln w="0">
            <a:noFill/>
          </a:ln>
        </p:spPr>
      </p:pic>
      <p:sp>
        <p:nvSpPr>
          <p:cNvPr id="1036" name="Rectangle 2"/>
          <p:cNvSpPr/>
          <p:nvPr/>
        </p:nvSpPr>
        <p:spPr>
          <a:xfrm>
            <a:off x="284040" y="628560"/>
            <a:ext cx="489744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宋体"/>
              </a:rPr>
              <a:t>说明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比如人们出去打猎的时候，每去一个人，就在绳子上打一个结，这样去了多少个人，绳子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就有多少个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2"/>
          <p:cNvSpPr/>
          <p:nvPr/>
        </p:nvSpPr>
        <p:spPr>
          <a:xfrm>
            <a:off x="3700440" y="3770280"/>
            <a:ext cx="536724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宋体"/>
              </a:rPr>
              <a:t>说明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再比如人们捕鱼归来时，捕到一条鱼，就在石头或木头上刻一道，一共捕了几条鱼，就刻几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文本框 53253"/>
          <p:cNvSpPr/>
          <p:nvPr/>
        </p:nvSpPr>
        <p:spPr>
          <a:xfrm>
            <a:off x="6164280" y="2879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结绳记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53254"/>
          <p:cNvSpPr/>
          <p:nvPr/>
        </p:nvSpPr>
        <p:spPr>
          <a:xfrm>
            <a:off x="5527440" y="5562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这样太不方便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图片 53255" descr="E:\2017秋上·黄倩\其他\人\海豚.jpg海豚"/>
          <p:cNvPicPr/>
          <p:nvPr/>
        </p:nvPicPr>
        <p:blipFill>
          <a:blip r:embed="rId3"/>
          <a:stretch/>
        </p:blipFill>
        <p:spPr>
          <a:xfrm flipH="1">
            <a:off x="7221240" y="5638680"/>
            <a:ext cx="927000" cy="1027080"/>
          </a:xfrm>
          <a:prstGeom prst="rect">
            <a:avLst/>
          </a:prstGeom>
          <a:ln w="0">
            <a:noFill/>
          </a:ln>
        </p:spPr>
      </p:pic>
      <p:sp>
        <p:nvSpPr>
          <p:cNvPr id="1041" name="圆角矩形标注 53256"/>
          <p:cNvSpPr/>
          <p:nvPr/>
        </p:nvSpPr>
        <p:spPr>
          <a:xfrm>
            <a:off x="4267080" y="5562720"/>
            <a:ext cx="2743200" cy="455400"/>
          </a:xfrm>
          <a:prstGeom prst="wedgeRoundRectCallout">
            <a:avLst>
              <a:gd name="adj1" fmla="val 51504"/>
              <a:gd name="adj2" fmla="val 8518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2"/>
          <p:cNvSpPr/>
          <p:nvPr/>
        </p:nvSpPr>
        <p:spPr>
          <a:xfrm>
            <a:off x="677880" y="4572000"/>
            <a:ext cx="83008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说明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些分别是巴比伦、中国和罗马发明的记数符号，它们分别代表阿拉伯数字中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"/>
          <p:cNvSpPr/>
          <p:nvPr/>
        </p:nvSpPr>
        <p:spPr>
          <a:xfrm>
            <a:off x="682560" y="838080"/>
            <a:ext cx="799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过渡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随着语言、文字的发展，逐渐发明了一些记数符号，但各个国家或地区的记数符号是不同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组合 54275"/>
          <p:cNvGrpSpPr/>
          <p:nvPr/>
        </p:nvGrpSpPr>
        <p:grpSpPr>
          <a:xfrm>
            <a:off x="652320" y="1981080"/>
            <a:ext cx="7034040" cy="2079720"/>
            <a:chOff x="652320" y="1981080"/>
            <a:chExt cx="7034040" cy="2079720"/>
          </a:xfrm>
        </p:grpSpPr>
        <p:pic>
          <p:nvPicPr>
            <p:cNvPr id="1045" name="图片 54276" descr="28"/>
            <p:cNvPicPr/>
            <p:nvPr/>
          </p:nvPicPr>
          <p:blipFill>
            <a:blip r:embed="rId1"/>
            <a:stretch/>
          </p:blipFill>
          <p:spPr>
            <a:xfrm>
              <a:off x="2236680" y="1981080"/>
              <a:ext cx="5449680" cy="20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矩形 54277"/>
            <p:cNvSpPr/>
            <p:nvPr/>
          </p:nvSpPr>
          <p:spPr>
            <a:xfrm>
              <a:off x="652320" y="2120760"/>
              <a:ext cx="4572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巴比伦数字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中国数字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罗马数字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TextBox 6"/>
          <p:cNvSpPr/>
          <p:nvPr/>
        </p:nvSpPr>
        <p:spPr>
          <a:xfrm>
            <a:off x="785880" y="1428840"/>
            <a:ext cx="74293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表示物体个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都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自然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Box 10"/>
          <p:cNvSpPr/>
          <p:nvPr/>
        </p:nvSpPr>
        <p:spPr>
          <a:xfrm>
            <a:off x="714240" y="2786040"/>
            <a:ext cx="7429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个物体也没有，用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表示，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也是自然数。所有的自然数都是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整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11"/>
          <p:cNvSpPr/>
          <p:nvPr/>
        </p:nvSpPr>
        <p:spPr>
          <a:xfrm>
            <a:off x="642960" y="4143240"/>
            <a:ext cx="7429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最小的自然数是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没有最大的自然数，自然数的个数是无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Box 13"/>
          <p:cNvSpPr/>
          <p:nvPr/>
        </p:nvSpPr>
        <p:spPr>
          <a:xfrm>
            <a:off x="3691080" y="1981080"/>
            <a:ext cx="1643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矩形 7"/>
          <p:cNvSpPr/>
          <p:nvPr/>
        </p:nvSpPr>
        <p:spPr>
          <a:xfrm>
            <a:off x="757080" y="5127480"/>
            <a:ext cx="6696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说明：这些都是比亿大的数，第二个数读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十三亿三千九百七十二万四千八百五十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9"/>
          <p:cNvSpPr/>
          <p:nvPr/>
        </p:nvSpPr>
        <p:spPr>
          <a:xfrm>
            <a:off x="757080" y="4446720"/>
            <a:ext cx="460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活动：读一读上面的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11"/>
          <p:cNvSpPr/>
          <p:nvPr/>
        </p:nvSpPr>
        <p:spPr>
          <a:xfrm>
            <a:off x="757080" y="609480"/>
            <a:ext cx="7054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在生产和生活中往往要遇到比亿大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图片 56324" descr="8"/>
          <p:cNvPicPr/>
          <p:nvPr/>
        </p:nvPicPr>
        <p:blipFill>
          <a:blip r:embed="rId1"/>
          <a:stretch/>
        </p:blipFill>
        <p:spPr>
          <a:xfrm>
            <a:off x="5381640" y="1784520"/>
            <a:ext cx="2362320" cy="1946160"/>
          </a:xfrm>
          <a:prstGeom prst="rect">
            <a:avLst/>
          </a:prstGeom>
          <a:ln w="0">
            <a:noFill/>
          </a:ln>
        </p:spPr>
      </p:pic>
      <p:sp>
        <p:nvSpPr>
          <p:cNvPr id="1055" name="文本框 56325"/>
          <p:cNvSpPr/>
          <p:nvPr/>
        </p:nvSpPr>
        <p:spPr>
          <a:xfrm>
            <a:off x="5595120" y="1371600"/>
            <a:ext cx="196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中国第六次人口普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文本框 56326"/>
          <p:cNvSpPr/>
          <p:nvPr/>
        </p:nvSpPr>
        <p:spPr>
          <a:xfrm>
            <a:off x="5635440" y="3657600"/>
            <a:ext cx="230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33972485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文本框 56327"/>
          <p:cNvSpPr/>
          <p:nvPr/>
        </p:nvSpPr>
        <p:spPr>
          <a:xfrm>
            <a:off x="1066680" y="335268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现代科学研究表明，人一生心跳约</a:t>
            </a:r>
            <a:r>
              <a:rPr b="0" lang="en-US" sz="26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25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r>
              <a:rPr b="0" lang="en-US" sz="26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30</a:t>
            </a:r>
            <a:r>
              <a:rPr b="0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亿次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图片 4" descr="pic61186060452431.jpg"/>
          <p:cNvPicPr/>
          <p:nvPr/>
        </p:nvPicPr>
        <p:blipFill>
          <a:blip r:embed="rId2"/>
          <a:stretch/>
        </p:blipFill>
        <p:spPr>
          <a:xfrm>
            <a:off x="1219320" y="1600200"/>
            <a:ext cx="2971800" cy="16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矩形 7"/>
          <p:cNvSpPr/>
          <p:nvPr/>
        </p:nvSpPr>
        <p:spPr>
          <a:xfrm>
            <a:off x="611280" y="5257800"/>
            <a:ext cx="8227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小结：个（一）、十、百、千、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亿、十亿、百亿、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亿都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计数单位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9"/>
          <p:cNvSpPr/>
          <p:nvPr/>
        </p:nvSpPr>
        <p:spPr>
          <a:xfrm>
            <a:off x="4713120" y="1170000"/>
            <a:ext cx="3897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活动：利用手中的计数器，从一亿开始，一亿一亿地数，看看你会发现什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13"/>
          <p:cNvSpPr/>
          <p:nvPr/>
        </p:nvSpPr>
        <p:spPr>
          <a:xfrm>
            <a:off x="611280" y="4114800"/>
            <a:ext cx="8313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个一亿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十亿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个十亿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百亿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个一百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千亿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6"/>
          <p:cNvSpPr/>
          <p:nvPr/>
        </p:nvSpPr>
        <p:spPr>
          <a:xfrm>
            <a:off x="611280" y="3317760"/>
            <a:ext cx="612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问题：从一亿开始，你可以继续数下去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图片 57349" descr="33"/>
          <p:cNvPicPr/>
          <p:nvPr/>
        </p:nvPicPr>
        <p:blipFill>
          <a:blip r:embed="rId1"/>
          <a:stretch/>
        </p:blipFill>
        <p:spPr>
          <a:xfrm>
            <a:off x="730080" y="990720"/>
            <a:ext cx="3503880" cy="20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矩形 7"/>
          <p:cNvSpPr/>
          <p:nvPr/>
        </p:nvSpPr>
        <p:spPr>
          <a:xfrm>
            <a:off x="476280" y="681120"/>
            <a:ext cx="867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宋体"/>
              </a:rPr>
              <a:t>说明：用阿拉伯数字写数时，要把计数单位按照一定的顺序排列起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10"/>
          <p:cNvSpPr/>
          <p:nvPr/>
        </p:nvSpPr>
        <p:spPr>
          <a:xfrm>
            <a:off x="482760" y="985680"/>
            <a:ext cx="792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宋体"/>
              </a:rPr>
              <a:t>活动：独立完善数位顺序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11"/>
          <p:cNvSpPr/>
          <p:nvPr/>
        </p:nvSpPr>
        <p:spPr>
          <a:xfrm>
            <a:off x="390600" y="4194000"/>
            <a:ext cx="792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问题：相邻两个计数单位之间的关系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12"/>
          <p:cNvSpPr/>
          <p:nvPr/>
        </p:nvSpPr>
        <p:spPr>
          <a:xfrm>
            <a:off x="390600" y="4727520"/>
            <a:ext cx="792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预设：进率都是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15"/>
          <p:cNvSpPr/>
          <p:nvPr/>
        </p:nvSpPr>
        <p:spPr>
          <a:xfrm>
            <a:off x="390600" y="5275440"/>
            <a:ext cx="8281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小结：像这样每相邻两个计数单位之间的进率都是十的计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方法叫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十进制计数法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9" name=""/>
          <p:cNvGraphicFramePr/>
          <p:nvPr/>
        </p:nvGraphicFramePr>
        <p:xfrm>
          <a:off x="450720" y="1374840"/>
          <a:ext cx="8153280" cy="2895480"/>
        </p:xfrm>
        <a:graphic>
          <a:graphicData uri="http://schemas.openxmlformats.org/drawingml/2006/table">
            <a:tbl>
              <a:tblPr/>
              <a:tblGrid>
                <a:gridCol w="709560"/>
                <a:gridCol w="424080"/>
                <a:gridCol w="865080"/>
                <a:gridCol w="838080"/>
                <a:gridCol w="838440"/>
                <a:gridCol w="450720"/>
                <a:gridCol w="515880"/>
                <a:gridCol w="515880"/>
                <a:gridCol w="515880"/>
                <a:gridCol w="451080"/>
                <a:gridCol w="515880"/>
                <a:gridCol w="515880"/>
                <a:gridCol w="515880"/>
                <a:gridCol w="480960"/>
              </a:tblGrid>
              <a:tr h="557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数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亿 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 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个 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数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85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计数单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70" name="TextBox 9"/>
          <p:cNvSpPr/>
          <p:nvPr/>
        </p:nvSpPr>
        <p:spPr>
          <a:xfrm>
            <a:off x="1752480" y="1832040"/>
            <a:ext cx="500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Box 14"/>
          <p:cNvSpPr/>
          <p:nvPr/>
        </p:nvSpPr>
        <p:spPr>
          <a:xfrm>
            <a:off x="3429000" y="1832040"/>
            <a:ext cx="500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15"/>
          <p:cNvSpPr/>
          <p:nvPr/>
        </p:nvSpPr>
        <p:spPr>
          <a:xfrm>
            <a:off x="2590920" y="1836720"/>
            <a:ext cx="500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16"/>
          <p:cNvSpPr/>
          <p:nvPr/>
        </p:nvSpPr>
        <p:spPr>
          <a:xfrm>
            <a:off x="3462480" y="2084400"/>
            <a:ext cx="500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十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17"/>
          <p:cNvSpPr/>
          <p:nvPr/>
        </p:nvSpPr>
        <p:spPr>
          <a:xfrm>
            <a:off x="2624040" y="2060640"/>
            <a:ext cx="500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百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Box 18"/>
          <p:cNvSpPr/>
          <p:nvPr/>
        </p:nvSpPr>
        <p:spPr>
          <a:xfrm>
            <a:off x="1785960" y="2036880"/>
            <a:ext cx="500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千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Box 9"/>
          <p:cNvSpPr/>
          <p:nvPr/>
        </p:nvSpPr>
        <p:spPr>
          <a:xfrm>
            <a:off x="1752480" y="3279600"/>
            <a:ext cx="500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Box 14"/>
          <p:cNvSpPr/>
          <p:nvPr/>
        </p:nvSpPr>
        <p:spPr>
          <a:xfrm>
            <a:off x="3429000" y="3279600"/>
            <a:ext cx="500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15"/>
          <p:cNvSpPr/>
          <p:nvPr/>
        </p:nvSpPr>
        <p:spPr>
          <a:xfrm>
            <a:off x="2590920" y="3284640"/>
            <a:ext cx="500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16"/>
          <p:cNvSpPr/>
          <p:nvPr/>
        </p:nvSpPr>
        <p:spPr>
          <a:xfrm>
            <a:off x="3462480" y="3532320"/>
            <a:ext cx="500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十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Box 17"/>
          <p:cNvSpPr/>
          <p:nvPr/>
        </p:nvSpPr>
        <p:spPr>
          <a:xfrm>
            <a:off x="2624040" y="3508200"/>
            <a:ext cx="500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百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Box 18"/>
          <p:cNvSpPr/>
          <p:nvPr/>
        </p:nvSpPr>
        <p:spPr>
          <a:xfrm>
            <a:off x="1785960" y="3484440"/>
            <a:ext cx="500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千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07:51:00Z</dcterms:created>
  <dc:creator/>
  <dc:description/>
  <dc:language>en-US</dc:language>
  <cp:lastModifiedBy>万润仪器贸易公司</cp:lastModifiedBy>
  <dcterms:modified xsi:type="dcterms:W3CDTF">2020-08-21T08:52:19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